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1FD-7A73-456A-821D-6238857D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DEE-F9F2-47C4-B897-7DAA428D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319DE-0513-4954-805C-E2FE3AB7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73A53-D18A-40D6-B269-75475601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AA71A-0961-4CEB-97A7-33BAB28F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A25B4-76FA-491E-BB5D-D1E94666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A6C9A-16C5-4CE9-80DC-F64041B3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706FD-D5A1-434D-802A-CC08426D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B5BF0-14F4-4FE6-AA82-407DA108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6B34F-0AB6-4182-A6EC-339F8821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E212C-F848-418D-883C-120DF306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2A9FC-B6C7-4330-96A7-DEC27699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D5DC-0A90-4D53-A303-3BD20B89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C7C96-8A4E-43E0-B8A8-05478CE4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60C1E-7460-4118-A5FC-4664C30B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7A891-E6BD-4608-84C5-D4828A95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3BDBB-5440-4479-9F79-D462F841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78DE5-B743-4B5C-8B40-2D31BD33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22B55-C13A-45D1-BD9A-4C6EC82F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39B6F-39CD-4730-84DD-DEDB5521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2D05D-6652-41E9-BB89-24F27663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F9B18-B097-4B98-8963-9EAA2508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B442A-E144-44DA-BCBA-EC63D45B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A0C-372D-4F73-974B-CC67D31C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AFA82-B2FC-4C38-AF41-E2260C3C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07326-35F7-4C74-9A75-A971EDD2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8D192-0AC1-4DD6-8AEE-48FF31F2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310A8-C29F-4120-BA49-A43C6C54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2A1F5-46F8-4BA1-A5C3-A2DC7FC5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38117-54A1-4942-B1CB-BEC67905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59DD5-21F3-4A1C-8C54-45A2C3BF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8AC93-B7FC-452F-92CF-FD47DB89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3E866-E9E2-413C-8C6C-82D3160A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ED3F7-3E4E-4DBB-82DA-B6AE8EC5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0A1E-A665-476E-A9EA-A8EDB35D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7EEE2-7357-4563-9C3F-698956DB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1AC40-7992-429C-B328-656CD33E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C673E-11C4-47E8-BBDE-8F8FEF61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E7F17-091C-44F2-B515-BF58910D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4F1DA-162A-4BF7-AD24-7280583F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AD8B5-0C4E-4D06-AA82-E6EF8E8E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227DC-E258-4192-BA8E-1ADD3C39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F3CC6-3F86-46E7-B8AB-A56CFC06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905C0-5740-46E7-8ED3-FB61B7F8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A133F-7F22-4171-8905-60951C9E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D052-9C6F-4E2A-985F-3128CC5A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2DE09-53FE-44D6-B571-52F54C6A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C2D3E-0A48-46D6-B58D-C63A0260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CCD20-5DBF-4AA5-AF10-27531891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CD80E-2B4A-466A-912F-6E52ECD6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197E9-385B-44A2-A4E1-667E0FA2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8CC1-DA5E-47F0-9088-EA8BC0CB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8866-BBD8-4AA9-831D-693E11C4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5A19-206C-4D6A-8659-C55222B6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F54D-161D-42A9-83A1-C88ECE3C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DD6C-3AB6-4132-ACE7-F94CD066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7663-A683-48C4-815C-495C123F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F544-FDCE-49C1-A10C-7ADD8231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94FF-0CA7-4C93-8989-78FF3DCA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8005-8844-4255-BFA8-61C99B98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E00C-3970-4C0A-BA9A-2B350164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43CC-FEFF-4F56-B3AF-6074315E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E8D9E-85FF-4015-ADFA-AFF3E794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FAA54-E7B8-4E2B-8B4B-23591AA9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2133E-519A-4E8A-BBE6-6B8A6327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9700E-770E-4FA0-8B24-56A2FFDC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7D5F1-7E36-445F-81F8-F49D0D9F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3D0F-1DDD-468E-B8D0-9EB40321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C0550-7A7F-4BA3-8B69-3C8D47DC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81041-7C59-44AA-915E-5788A0E6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424B0-AA68-412E-86D0-3B7BD842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448ED-1593-42D5-8488-AE4F81BF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22F2A-9082-429D-A00E-1F51F265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BC846-35AF-42E3-95FB-3DB6C8D2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D78B6-AC23-4787-827D-90BA4DE6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8C360-1F16-49C3-BFD6-5A4DB778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C5D5C-4C3F-4631-9F0E-C97CF1BF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AF2A6-9859-469B-A644-9296DA9E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6E5B-A439-421B-9868-6A761A69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98BDC-7B5C-4596-8106-082538F4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2499D-B64E-41E9-BBC3-71706EF5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CEFA3-9EB9-4E31-BD96-D1928775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ABF7B-0C1F-4FB2-B6A6-2877E2FC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7CAE4-17E8-4935-9AF6-083947A7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C34DB-CB45-4118-8579-A72EF991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80B9D-F85A-4BFC-8F83-192B7FC1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80E60-AE5F-4973-BD54-02FC23EA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8258A-E92C-403B-A9DB-3FB8E594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47E44-B3E5-4056-BB42-5B93A1BB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CD71-E0C8-40B1-9AA6-7AE4F754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C3803-23A2-4763-9E25-B121B0EB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AF18A-468F-4B31-AD8A-553F3E12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6A951-31C5-44E9-90F1-72671DEA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E012A-0010-4F10-9905-1A1545D3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C8135-59E1-426B-920E-608A8B48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D9A43-7BC4-4CFE-B175-7E2B262C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FDD32-1DDF-4529-8E9D-B88EFA12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DC959-D8A4-4708-8D13-EAFBF465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AA5BE-E7F4-4118-8332-919F03FF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F18E8-B1A0-4696-8D6D-D32904E3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885-C238-4D0D-8368-15A1AC19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9EEDD-481D-4068-B304-1A93F917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C1FBD-47EE-4419-A254-19486487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4EB4B-15D6-45DD-B0CE-988257B5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067C3-9530-43F2-B62E-1D0738B9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D5251-826D-49C7-B143-D6298CAC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EBEA4-B000-4617-B974-AE4914B7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80818-8B8D-4F38-8F7C-050B4D50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6211F-FEB1-4607-9071-ADF8AFCD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49783-F75E-4508-90FB-3869A3E5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2B902-FE95-4279-AEE3-A294FCD0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4B6-5FE0-4A0F-B002-00203AB9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AF218-4C10-47AE-B3CB-7498B98E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9E711-3783-48E3-B920-DAAEFDDB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5EDD3-D50F-47E0-88C1-7ED1C9E5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B178C-A46E-459D-8E91-38207B59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E16A6-ECFE-4124-AEC9-D960D8B5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6E6A5-7B26-48B1-917B-1964155E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3DE4E-7B1F-4EA8-ABB2-A2FBE91F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F6294-BCA7-4FCD-9068-1344CA65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2FE3B-37FC-4AC4-BCD9-2648E0BD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5604E-8883-46DC-93D5-74D2B935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C22-B94B-4785-9089-A7FE53E3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8EF79-CAE8-4DD5-86CC-17615D7F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67CEB-0097-4DE5-8A99-EE0485AA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66C92-F976-47FF-BFD0-6FC5B40B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77F8F-2E3F-4493-9718-C71D07C2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86767-7654-4849-95B5-1068BF5F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F6758-FA32-4CCA-A534-35D6A5C0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FC001-D4CE-4BBB-A57E-E97A2777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638AA-F45A-439E-A068-6197E7D7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3FE43-0F4F-4D87-97D9-99785DD8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059B0-1F28-4111-ADC4-AD451382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568E-4CEB-4384-915E-57F681A8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BFD47-221F-4886-8A1E-2E8E4EF3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91879-A6CA-4C57-A170-CFD6A466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0B3DA-CAC1-4D77-A397-1ED4894A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1394D-0203-4DD7-AF27-3BC220C1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C988C-3A41-43C7-965B-B6E1329B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89FF9-0272-4ADE-AAFB-BC6EB5BC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0C5D1-C26E-439A-AEF6-4847BCA7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B6E81-CBE3-4D82-9BC0-CA94A9B9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E97CC-0BC0-4B1B-BDBE-2491B21E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00EC0-8444-4BFC-A3C9-AB64B440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C5F4-3FAE-4273-9171-FA6AC8FE84EE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7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1AD9-6542-481C-83A8-C23CF84AEEC7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5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FF45-0930-42C9-96B8-9B46AF4E6F8E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68F3-379B-448A-88F2-18F24E66F4F6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0F0C-8B96-4B5C-A84A-56A4DEFF51D9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750B-7A1B-47DF-ADA1-581F2F5C25FF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342B-203D-44AA-982D-006533E10765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6262-3BD8-4E90-9022-085223D208B2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8E38-33FA-4D97-A882-350C43C391B9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7440-E627-4243-A92D-B32DA90A401A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153F-0B9F-4EAE-B89B-5C486D990373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A427-A1E2-4229-AEF3-6533560A9CA0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pl/url?sa=i&amp;rct=j&amp;q=&amp;esrc=s&amp;frm=1&amp;source=images&amp;cd=&amp;cad=rja&amp;docid=x3O5PxcZ9wWfUM&amp;tbnid=JHO74gw_xqNUDM:&amp;ved=0CAUQjRw&amp;url=http%3A%2F%2Fwww.cauchy.pl%2Fmatura%2Fp_2006_11_p%2F5%2Findex.php&amp;ei=-qCaUcP2JcfnswbJ84GoBg&amp;bvm=bv.46751780,d.Yms&amp;psig=AFQjCNFssyByw83TLltqo_bdrGcZk9xnLA&amp;ust=1369174614896921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4055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Symetrie w układzie współrzędny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rostokąt 4"/>
          <p:cNvSpPr/>
          <p:nvPr/>
        </p:nvSpPr>
        <p:spPr>
          <a:xfrm>
            <a:off x="1187280" y="404640"/>
            <a:ext cx="756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Uwag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Punkty symetryczne względem osi y mają równe drugie współrzędne, a pierwsze współrzędne są liczbami przeciwnymi, 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i P’=(-x,y)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Jeżeli punkt leży na osi y, to punktem symetrycznym do niego względem osi y jest ten sam pun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74581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względem początku układu współrzędny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7" name="Prostokąt 2"/>
          <p:cNvSpPr/>
          <p:nvPr/>
        </p:nvSpPr>
        <p:spPr>
          <a:xfrm>
            <a:off x="1042920" y="3213000"/>
            <a:ext cx="7561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ill Sans MT"/>
              </a:rPr>
              <a:t>Zadanie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początku układu współrzędny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7" descr="http://www.cauchy.pl/matura/p_2006_11_p/5/uklad_wspolrzednych.gif"/>
          <p:cNvPicPr/>
          <p:nvPr/>
        </p:nvPicPr>
        <p:blipFill>
          <a:blip r:embed="rId1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629" name="Elipsa 24"/>
          <p:cNvSpPr/>
          <p:nvPr/>
        </p:nvSpPr>
        <p:spPr>
          <a:xfrm>
            <a:off x="4454640" y="1052640"/>
            <a:ext cx="460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Elipsa 25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Elipsa 26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27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Elipsa 28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Elipsa 29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Łącznik prosty 30"/>
          <p:cNvSpPr/>
          <p:nvPr/>
        </p:nvSpPr>
        <p:spPr>
          <a:xfrm>
            <a:off x="4211640" y="1089000"/>
            <a:ext cx="550800" cy="2664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Elipsa 31"/>
          <p:cNvSpPr/>
          <p:nvPr/>
        </p:nvSpPr>
        <p:spPr>
          <a:xfrm>
            <a:off x="471636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Łącznik prosty 32"/>
          <p:cNvSpPr/>
          <p:nvPr/>
        </p:nvSpPr>
        <p:spPr>
          <a:xfrm flipH="1">
            <a:off x="3924000" y="1628640"/>
            <a:ext cx="1103400" cy="1513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Elipsa 33"/>
          <p:cNvSpPr/>
          <p:nvPr/>
        </p:nvSpPr>
        <p:spPr>
          <a:xfrm>
            <a:off x="3924360" y="314172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Łącznik prosty 34"/>
          <p:cNvSpPr/>
          <p:nvPr/>
        </p:nvSpPr>
        <p:spPr>
          <a:xfrm flipH="1" flipV="1">
            <a:off x="3459240" y="1884240"/>
            <a:ext cx="2031840" cy="1044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Elipsa 35"/>
          <p:cNvSpPr/>
          <p:nvPr/>
        </p:nvSpPr>
        <p:spPr>
          <a:xfrm>
            <a:off x="3419640" y="1844640"/>
            <a:ext cx="4572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Łącznik prosty 36"/>
          <p:cNvSpPr/>
          <p:nvPr/>
        </p:nvSpPr>
        <p:spPr>
          <a:xfrm flipV="1">
            <a:off x="3708360" y="1341000"/>
            <a:ext cx="1584360" cy="2158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Elipsa 37"/>
          <p:cNvSpPr/>
          <p:nvPr/>
        </p:nvSpPr>
        <p:spPr>
          <a:xfrm>
            <a:off x="5292720" y="1268280"/>
            <a:ext cx="442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Elipsa 38"/>
          <p:cNvSpPr/>
          <p:nvPr/>
        </p:nvSpPr>
        <p:spPr>
          <a:xfrm flipH="1">
            <a:off x="2916360" y="234936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Łącznik prosty 39"/>
          <p:cNvSpPr/>
          <p:nvPr/>
        </p:nvSpPr>
        <p:spPr>
          <a:xfrm flipH="1">
            <a:off x="2987280" y="2421000"/>
            <a:ext cx="3073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ole tekstowe 40"/>
          <p:cNvSpPr/>
          <p:nvPr/>
        </p:nvSpPr>
        <p:spPr>
          <a:xfrm>
            <a:off x="541800" y="4437000"/>
            <a:ext cx="759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początku układu współrzęd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ą punkty: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Łącznik prosty 55"/>
          <p:cNvSpPr/>
          <p:nvPr/>
        </p:nvSpPr>
        <p:spPr>
          <a:xfrm flipH="1" flipV="1">
            <a:off x="4460400" y="1091880"/>
            <a:ext cx="39960" cy="26240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Elipsa 59"/>
          <p:cNvSpPr/>
          <p:nvPr/>
        </p:nvSpPr>
        <p:spPr>
          <a:xfrm>
            <a:off x="4454640" y="371628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rostokąt 63" descr=""/>
          <p:cNvPicPr/>
          <p:nvPr/>
        </p:nvPicPr>
        <p:blipFill>
          <a:blip r:embed="rId2"/>
          <a:stretch/>
        </p:blipFill>
        <p:spPr>
          <a:xfrm>
            <a:off x="2249640" y="4979880"/>
            <a:ext cx="4627440" cy="20671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1"/>
          <p:cNvSpPr/>
          <p:nvPr/>
        </p:nvSpPr>
        <p:spPr>
          <a:xfrm>
            <a:off x="999720" y="356400"/>
            <a:ext cx="73267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Uwag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Współrzędne punktów symetrycznych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względem początku układu współrzędnych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są liczbami przeciwnymi, 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   i     P’=(-x,-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72314"/>
                </a:solidFill>
                <a:latin typeface="Gill Sans MT"/>
              </a:rPr>
              <a:t>Pomysły zadań i ćwiczeń zostały zaczerpnięte z: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Prostokąt 2"/>
          <p:cNvSpPr/>
          <p:nvPr/>
        </p:nvSpPr>
        <p:spPr>
          <a:xfrm>
            <a:off x="1042920" y="1628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matematyka.opracowania.pl/gimnazjum/symetrie_w_uk%C5%82adzie_wsp%C3%B3%C5%82rz%C4%99dnyc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rostokąt 3"/>
          <p:cNvSpPr/>
          <p:nvPr/>
        </p:nvSpPr>
        <p:spPr>
          <a:xfrm>
            <a:off x="1042920" y="2276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matmana6.pl/tablice_matematyczne/liceum/geometria_analityczna/62-uklad_wspolrze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rostokąt 4"/>
          <p:cNvSpPr/>
          <p:nvPr/>
        </p:nvSpPr>
        <p:spPr>
          <a:xfrm>
            <a:off x="1024200" y="2997360"/>
            <a:ext cx="45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math.edu.pl/uklad-kartezjan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rostokąt 5"/>
          <p:cNvSpPr/>
          <p:nvPr/>
        </p:nvSpPr>
        <p:spPr>
          <a:xfrm>
            <a:off x="1008000" y="335772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iki.wolnepodreczniki.pl/Matematyka:Gimnazjum/Kartezja%C5%84ski_uk%C5%82ad_wsp%C3%B3%C5%82rz%C4%99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572314"/>
                </a:solidFill>
                <a:latin typeface="Gill Sans MT"/>
              </a:rPr>
              <a:t>Prostokątny układ współrzędnych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0" name="pole tekstowe 9"/>
          <p:cNvSpPr/>
          <p:nvPr/>
        </p:nvSpPr>
        <p:spPr>
          <a:xfrm>
            <a:off x="1042920" y="364644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Ćwiczeni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Określ położenie Multik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ole tekstowe 10"/>
          <p:cNvSpPr/>
          <p:nvPr/>
        </p:nvSpPr>
        <p:spPr>
          <a:xfrm>
            <a:off x="1042920" y="14130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 czego służ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układ współrzędny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" descr="C:\Users\temp\Desktop\PPWK_Wloclawek_A4.jpg"/>
          <p:cNvPicPr/>
          <p:nvPr/>
        </p:nvPicPr>
        <p:blipFill>
          <a:blip r:embed="rId1"/>
          <a:stretch/>
        </p:blipFill>
        <p:spPr>
          <a:xfrm>
            <a:off x="4427640" y="1284120"/>
            <a:ext cx="4427280" cy="5384880"/>
          </a:xfrm>
          <a:prstGeom prst="rect">
            <a:avLst/>
          </a:prstGeom>
          <a:ln w="0">
            <a:noFill/>
          </a:ln>
        </p:spPr>
      </p:pic>
      <p:sp>
        <p:nvSpPr>
          <p:cNvPr id="563" name="pole tekstowe 5"/>
          <p:cNvSpPr/>
          <p:nvPr/>
        </p:nvSpPr>
        <p:spPr>
          <a:xfrm>
            <a:off x="1698480" y="551664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Odpowied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3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ole tekstowe 8"/>
          <p:cNvSpPr/>
          <p:nvPr/>
        </p:nvSpPr>
        <p:spPr>
          <a:xfrm>
            <a:off x="890280" y="2567160"/>
            <a:ext cx="30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zykł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Tesco leży w kwadracie 2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rostokąt 2"/>
          <p:cNvSpPr/>
          <p:nvPr/>
        </p:nvSpPr>
        <p:spPr>
          <a:xfrm>
            <a:off x="1042920" y="260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 określenia położenia punktu na płaszczyźnie używamy prostokątnego układu współrzęd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9"/>
          <p:cNvSpPr/>
          <p:nvPr/>
        </p:nvSpPr>
        <p:spPr>
          <a:xfrm>
            <a:off x="1042920" y="98100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ostokątny układ współrzędnych tworzą dwie prostopadłe osie liczbowe, które dzielą płaszczyznę na cztery ćwiartki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 przecięcia się osi nazywamy początkiem układu współrzę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7" descr=""/>
          <p:cNvPicPr/>
          <p:nvPr/>
        </p:nvPicPr>
        <p:blipFill>
          <a:blip r:embed="rId4"/>
          <a:stretch/>
        </p:blipFill>
        <p:spPr>
          <a:xfrm>
            <a:off x="3852720" y="981000"/>
            <a:ext cx="4748400" cy="440856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8"/>
          <p:cNvSpPr/>
          <p:nvPr/>
        </p:nvSpPr>
        <p:spPr>
          <a:xfrm>
            <a:off x="1150920" y="5292000"/>
            <a:ext cx="77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ierwszą liczbą  jest  współrzędna x, którą odczytujemy na osi poziomej x (oś odciętyc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rugą liczbą jest współrzędna y, którą odczytujemy na osi pionowej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(oś rzędnych)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rostokąt 13"/>
          <p:cNvSpPr/>
          <p:nvPr/>
        </p:nvSpPr>
        <p:spPr>
          <a:xfrm>
            <a:off x="1042920" y="3751200"/>
            <a:ext cx="28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ołożenie punktu w układzie współrzędnych określamy za pomocą współrzęd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i="1" lang="pl-PL" sz="1800" spc="-1" strike="noStrike">
                <a:solidFill>
                  <a:srgbClr val="000000"/>
                </a:solidFill>
                <a:latin typeface="Gill Sans MT"/>
              </a:rPr>
              <a:t>P=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http://www.matmana6.pl/zdjecia/szkola_srednia/geometria_analityczna/uklad_wspolrzednych_6.png"/>
          <p:cNvPicPr/>
          <p:nvPr/>
        </p:nvPicPr>
        <p:blipFill>
          <a:blip r:embed="rId1"/>
          <a:stretch/>
        </p:blipFill>
        <p:spPr>
          <a:xfrm>
            <a:off x="2914560" y="262080"/>
            <a:ext cx="3962520" cy="3273120"/>
          </a:xfrm>
          <a:prstGeom prst="rect">
            <a:avLst/>
          </a:prstGeom>
          <a:ln w="0">
            <a:noFill/>
          </a:ln>
        </p:spPr>
      </p:pic>
      <p:sp>
        <p:nvSpPr>
          <p:cNvPr id="571" name="Prostokąt 4"/>
          <p:cNvSpPr/>
          <p:nvPr/>
        </p:nvSpPr>
        <p:spPr>
          <a:xfrm>
            <a:off x="1042920" y="3645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pasuj do punktów ich współrzę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B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5"/>
          <p:cNvSpPr/>
          <p:nvPr/>
        </p:nvSpPr>
        <p:spPr>
          <a:xfrm>
            <a:off x="992520" y="189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Ćwiczeni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Grupa 5" descr=""/>
          <p:cNvPicPr/>
          <p:nvPr/>
        </p:nvPicPr>
        <p:blipFill>
          <a:blip r:embed="rId2"/>
          <a:stretch/>
        </p:blipFill>
        <p:spPr>
          <a:xfrm>
            <a:off x="184140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4" name="Grupa 8" descr=""/>
          <p:cNvPicPr/>
          <p:nvPr/>
        </p:nvPicPr>
        <p:blipFill>
          <a:blip r:embed="rId3"/>
          <a:stretch/>
        </p:blipFill>
        <p:spPr>
          <a:xfrm>
            <a:off x="1841400" y="4870440"/>
            <a:ext cx="1670040" cy="811080"/>
          </a:xfrm>
          <a:prstGeom prst="rect">
            <a:avLst/>
          </a:prstGeom>
          <a:ln w="0">
            <a:noFill/>
          </a:ln>
        </p:spPr>
      </p:pic>
      <p:pic>
        <p:nvPicPr>
          <p:cNvPr id="575" name="Grupa 14" descr=""/>
          <p:cNvPicPr/>
          <p:nvPr/>
        </p:nvPicPr>
        <p:blipFill>
          <a:blip r:embed="rId4"/>
          <a:stretch/>
        </p:blipFill>
        <p:spPr>
          <a:xfrm>
            <a:off x="1841400" y="421812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6" name="Grupa 17" descr=""/>
          <p:cNvPicPr/>
          <p:nvPr/>
        </p:nvPicPr>
        <p:blipFill>
          <a:blip r:embed="rId5"/>
          <a:stretch/>
        </p:blipFill>
        <p:spPr>
          <a:xfrm>
            <a:off x="426708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7" name="Grupa 20" descr=""/>
          <p:cNvPicPr/>
          <p:nvPr/>
        </p:nvPicPr>
        <p:blipFill>
          <a:blip r:embed="rId6"/>
          <a:stretch/>
        </p:blipFill>
        <p:spPr>
          <a:xfrm>
            <a:off x="4290840" y="4870440"/>
            <a:ext cx="1665360" cy="811080"/>
          </a:xfrm>
          <a:prstGeom prst="rect">
            <a:avLst/>
          </a:prstGeom>
          <a:ln w="0">
            <a:noFill/>
          </a:ln>
        </p:spPr>
      </p:pic>
      <p:pic>
        <p:nvPicPr>
          <p:cNvPr id="578" name="Grupa 23" descr=""/>
          <p:cNvPicPr/>
          <p:nvPr/>
        </p:nvPicPr>
        <p:blipFill>
          <a:blip r:embed="rId7"/>
          <a:stretch/>
        </p:blipFill>
        <p:spPr>
          <a:xfrm>
            <a:off x="4290840" y="4218120"/>
            <a:ext cx="1665360" cy="817560"/>
          </a:xfrm>
          <a:prstGeom prst="rect">
            <a:avLst/>
          </a:prstGeom>
          <a:ln w="0">
            <a:noFill/>
          </a:ln>
        </p:spPr>
      </p:pic>
      <p:pic>
        <p:nvPicPr>
          <p:cNvPr id="579" name="Grupa 26" descr=""/>
          <p:cNvPicPr/>
          <p:nvPr/>
        </p:nvPicPr>
        <p:blipFill>
          <a:blip r:embed="rId8"/>
          <a:stretch/>
        </p:blipFill>
        <p:spPr>
          <a:xfrm>
            <a:off x="666288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80" name="Grupa 29" descr=""/>
          <p:cNvPicPr/>
          <p:nvPr/>
        </p:nvPicPr>
        <p:blipFill>
          <a:blip r:embed="rId9"/>
          <a:stretch/>
        </p:blipFill>
        <p:spPr>
          <a:xfrm>
            <a:off x="6662880" y="4870440"/>
            <a:ext cx="1670040" cy="811080"/>
          </a:xfrm>
          <a:prstGeom prst="rect">
            <a:avLst/>
          </a:prstGeom>
          <a:ln w="0">
            <a:noFill/>
          </a:ln>
        </p:spPr>
      </p:pic>
      <p:pic>
        <p:nvPicPr>
          <p:cNvPr id="581" name="Grupa 32" descr=""/>
          <p:cNvPicPr/>
          <p:nvPr/>
        </p:nvPicPr>
        <p:blipFill>
          <a:blip r:embed="rId10"/>
          <a:stretch/>
        </p:blipFill>
        <p:spPr>
          <a:xfrm>
            <a:off x="6662880" y="4218120"/>
            <a:ext cx="1670040" cy="817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rostokąt 6"/>
          <p:cNvSpPr/>
          <p:nvPr/>
        </p:nvSpPr>
        <p:spPr>
          <a:xfrm>
            <a:off x="1041480" y="2622600"/>
            <a:ext cx="763416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ill Sans MT"/>
              </a:rPr>
              <a:t>Zadanie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osi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względem osi x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7" descr="http://www.cauchy.pl/matura/p_2006_11_p/5/uklad_wspolrzednych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pic>
        <p:nvPicPr>
          <p:cNvPr id="585" name="Prostokąt 7" descr=""/>
          <p:cNvPicPr/>
          <p:nvPr/>
        </p:nvPicPr>
        <p:blipFill>
          <a:blip r:embed="rId3"/>
          <a:stretch/>
        </p:blipFill>
        <p:spPr>
          <a:xfrm>
            <a:off x="2828880" y="4748040"/>
            <a:ext cx="4619520" cy="2067120"/>
          </a:xfrm>
          <a:prstGeom prst="rect">
            <a:avLst/>
          </a:prstGeom>
          <a:ln w="0">
            <a:noFill/>
          </a:ln>
        </p:spPr>
      </p:pic>
      <p:sp>
        <p:nvSpPr>
          <p:cNvPr id="586" name="Elipsa 10"/>
          <p:cNvSpPr/>
          <p:nvPr/>
        </p:nvSpPr>
        <p:spPr>
          <a:xfrm>
            <a:off x="4454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lipsa 11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Elipsa 12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Elipsa 13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Elipsa 14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lipsa 15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Łącznik prosty 17"/>
          <p:cNvSpPr/>
          <p:nvPr/>
        </p:nvSpPr>
        <p:spPr>
          <a:xfrm>
            <a:off x="4492800" y="1114560"/>
            <a:ext cx="7920" cy="2601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Elipsa 18"/>
          <p:cNvSpPr/>
          <p:nvPr/>
        </p:nvSpPr>
        <p:spPr>
          <a:xfrm>
            <a:off x="445464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Łącznik prosty 20"/>
          <p:cNvSpPr/>
          <p:nvPr/>
        </p:nvSpPr>
        <p:spPr>
          <a:xfrm flipH="1">
            <a:off x="4211640" y="1063800"/>
            <a:ext cx="6480" cy="26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Elipsa 21"/>
          <p:cNvSpPr/>
          <p:nvPr/>
        </p:nvSpPr>
        <p:spPr>
          <a:xfrm>
            <a:off x="421164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Łącznik prosty 23"/>
          <p:cNvSpPr/>
          <p:nvPr/>
        </p:nvSpPr>
        <p:spPr>
          <a:xfrm flipH="1">
            <a:off x="5003640" y="1617840"/>
            <a:ext cx="6480" cy="1595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Elipsa 24"/>
          <p:cNvSpPr/>
          <p:nvPr/>
        </p:nvSpPr>
        <p:spPr>
          <a:xfrm>
            <a:off x="5003640" y="314172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Łącznik prosty 30"/>
          <p:cNvSpPr/>
          <p:nvPr/>
        </p:nvSpPr>
        <p:spPr>
          <a:xfrm flipV="1">
            <a:off x="5573880" y="1844640"/>
            <a:ext cx="6120" cy="1090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Elipsa 33"/>
          <p:cNvSpPr/>
          <p:nvPr/>
        </p:nvSpPr>
        <p:spPr>
          <a:xfrm>
            <a:off x="5533920" y="184464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Łącznik prosty 35"/>
          <p:cNvSpPr/>
          <p:nvPr/>
        </p:nvSpPr>
        <p:spPr>
          <a:xfrm flipV="1">
            <a:off x="3700440" y="1341360"/>
            <a:ext cx="7920" cy="209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36"/>
          <p:cNvSpPr/>
          <p:nvPr/>
        </p:nvSpPr>
        <p:spPr>
          <a:xfrm>
            <a:off x="3662280" y="1268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rostokąt 37"/>
          <p:cNvSpPr/>
          <p:nvPr/>
        </p:nvSpPr>
        <p:spPr>
          <a:xfrm>
            <a:off x="1246680" y="4438800"/>
            <a:ext cx="57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osi x są punk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rostokąt 3"/>
          <p:cNvSpPr/>
          <p:nvPr/>
        </p:nvSpPr>
        <p:spPr>
          <a:xfrm>
            <a:off x="1116000" y="189000"/>
            <a:ext cx="7128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Gill Sans MT"/>
              </a:rPr>
              <a:t>Uwaga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Punkty symetryczne względem osi x mają równe pierwsze współrzędne, a drugie współrzędne są liczbami przeciwnymi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, 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   i    P’=(x,-y)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Jeżeli punkt leży na osi x, to punktem symetrycznym do niego względem osi x jest ten sam pun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772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3900"/>
            </a:br>
            <a:r>
              <a:rPr b="1" lang="pl-PL" sz="3900" spc="-1" strike="noStrike">
                <a:solidFill>
                  <a:srgbClr val="572314"/>
                </a:solidFill>
                <a:latin typeface="Gill Sans MT"/>
              </a:rPr>
              <a:t>względem osi y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Prostokąt 2"/>
          <p:cNvSpPr/>
          <p:nvPr/>
        </p:nvSpPr>
        <p:spPr>
          <a:xfrm>
            <a:off x="1403280" y="2921040"/>
            <a:ext cx="7416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danie 2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osi 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http://www.cauchy.pl/matura/p_2006_11_p/5/uklad_wspolrzednych.gif"/>
          <p:cNvPicPr/>
          <p:nvPr/>
        </p:nvPicPr>
        <p:blipFill>
          <a:blip r:embed="rId1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607" name="Elipsa 5"/>
          <p:cNvSpPr/>
          <p:nvPr/>
        </p:nvSpPr>
        <p:spPr>
          <a:xfrm>
            <a:off x="4454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Elipsa 6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Elipsa 7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lipsa 8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Elipsa 9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Elipsa 10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Łącznik prosty 13"/>
          <p:cNvSpPr/>
          <p:nvPr/>
        </p:nvSpPr>
        <p:spPr>
          <a:xfrm>
            <a:off x="4211640" y="1089000"/>
            <a:ext cx="5508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lipsa 14"/>
          <p:cNvSpPr/>
          <p:nvPr/>
        </p:nvSpPr>
        <p:spPr>
          <a:xfrm>
            <a:off x="4716360" y="1052640"/>
            <a:ext cx="46080" cy="72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Łącznik prosty 15"/>
          <p:cNvSpPr/>
          <p:nvPr/>
        </p:nvSpPr>
        <p:spPr>
          <a:xfrm flipH="1">
            <a:off x="3995640" y="1617840"/>
            <a:ext cx="1014480" cy="10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Elipsa 16"/>
          <p:cNvSpPr/>
          <p:nvPr/>
        </p:nvSpPr>
        <p:spPr>
          <a:xfrm>
            <a:off x="3924360" y="155736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Łącznik prosty 17"/>
          <p:cNvSpPr/>
          <p:nvPr/>
        </p:nvSpPr>
        <p:spPr>
          <a:xfrm flipH="1">
            <a:off x="3425400" y="2935440"/>
            <a:ext cx="21481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Elipsa 18"/>
          <p:cNvSpPr/>
          <p:nvPr/>
        </p:nvSpPr>
        <p:spPr>
          <a:xfrm>
            <a:off x="3419640" y="2924280"/>
            <a:ext cx="4572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Łącznik prosty 19"/>
          <p:cNvSpPr/>
          <p:nvPr/>
        </p:nvSpPr>
        <p:spPr>
          <a:xfrm>
            <a:off x="3708360" y="3465360"/>
            <a:ext cx="1511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Elipsa 20"/>
          <p:cNvSpPr/>
          <p:nvPr/>
        </p:nvSpPr>
        <p:spPr>
          <a:xfrm>
            <a:off x="5219640" y="342900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Elipsa 29"/>
          <p:cNvSpPr/>
          <p:nvPr/>
        </p:nvSpPr>
        <p:spPr>
          <a:xfrm>
            <a:off x="2870280" y="234936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Łącznik prosty 30"/>
          <p:cNvSpPr/>
          <p:nvPr/>
        </p:nvSpPr>
        <p:spPr>
          <a:xfrm flipH="1">
            <a:off x="2987280" y="2421000"/>
            <a:ext cx="3073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rostokąt 33"/>
          <p:cNvSpPr/>
          <p:nvPr/>
        </p:nvSpPr>
        <p:spPr>
          <a:xfrm>
            <a:off x="1116000" y="43671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osi y są punk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rostokąt 34" descr=""/>
          <p:cNvPicPr/>
          <p:nvPr/>
        </p:nvPicPr>
        <p:blipFill>
          <a:blip r:embed="rId2"/>
          <a:stretch/>
        </p:blipFill>
        <p:spPr>
          <a:xfrm>
            <a:off x="2073240" y="4681440"/>
            <a:ext cx="4619520" cy="2060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8:39:31Z</dcterms:created>
  <dc:creator>temp</dc:creator>
  <dc:description/>
  <dc:language>en-US</dc:language>
  <cp:lastModifiedBy>Ania</cp:lastModifiedBy>
  <dcterms:modified xsi:type="dcterms:W3CDTF">2013-05-27T20:44:52Z</dcterms:modified>
  <cp:revision>58</cp:revision>
  <dc:subject/>
  <dc:title>Symetrie w układzie współrzędnych</dc:title>
</cp:coreProperties>
</file>